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97B5-2770-44B3-A974-F0E82D883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3C8D-EA55-4AF0-B861-ECD1B2EA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0DAC3-637D-4986-912A-28D66B78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5BE45-5E7E-455B-983E-FC6F1303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33C5B-4088-41D7-ADB2-830B0EC1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2BF35-C707-4393-BE44-D1CA4E32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3BEC0-A895-4160-952C-940502BE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79CD25-82F8-4ED5-AD75-BEE9A1C8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375C9-242F-4C16-A8C9-37BF1D8F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A60D8-77FF-4238-889E-53B715723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0303B-970D-4912-AD65-3629E1DF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9F4B1-B928-406F-BB53-CCF3C41D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1610-F6F8-4B47-AC5A-59A2B0309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20B59-3AC9-42F8-8C8A-50D06D04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77383-272E-43DC-AD8F-02042943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DEFAA-5D61-4D79-B61E-1F54278E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DE70C-424D-406A-B40B-128F1CAD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641CB-E44F-4987-B8E9-CA63E99E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FACF9-A0F6-4104-9B30-15B7C088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EFE31-EB45-4BC9-A848-108141EE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6F8567-4A41-408C-AD62-EA59B7FC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EAECB-8A7C-4220-8037-DD944659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D2467-1BB1-4E82-A100-93E743CA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60E0-D50F-41EF-BD8B-15C438B28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518FC-6864-4E9C-ABE1-8D3288207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5B11A-E87D-4C46-B9A2-3CC499507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1A8D9-A904-42E8-9BBD-431779E3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1BB10-EE48-45E9-9351-EE17DF05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B3C4B-9D3F-428F-94ED-2170486E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38C46-504C-49E9-B4AD-E35B56B8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8BFDF-BE26-4A2C-AB03-CD74519F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2E61E-5743-480E-8685-89AD9BBF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AF654-47CD-4910-B8D7-C9C08376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71C64-4027-4929-8737-80810109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7AC6-BC8F-41F6-A1DF-B87138D2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120B1-3A42-44F6-A0EE-97222D83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AB285-6CE9-4AEB-AC00-74DE6E411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60D80-9455-4D6A-8CC1-5F17D3B71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501838-BA2B-46A7-84D7-A42D793D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B3286-29F0-4EB1-A671-9BD68CDE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A9200C-F983-4A64-8231-868ABD9F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2D6EBD-78AA-4F8F-8D58-9DFD71FF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2235B9-7DF5-4871-9075-F6F15E3A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8B04B-3C87-4165-A928-7A61AB9A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B06A80-F3E3-4308-AEB0-D9485F6B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B274-C3D8-45CC-9CA2-810687DE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5E5438-A6BA-443D-ADFA-C23AECDF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C66D80-981F-4E1B-B7F9-8D299512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851C4-5DCD-4718-AB2E-A1A4C55B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0FAE5-8DB5-4C50-85A0-A31E704D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A1466-86E8-4DDA-B1E7-902A1185B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5837E5-3513-4BBB-947F-84FABCCD5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89BF45-E793-4139-96A4-B72FBE23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BC9EE3-4A40-4006-A9EB-713B4015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9FBB60-4DBE-4485-A902-777D1664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770F44-BBC0-42BB-AC8B-1E652B50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8685-88B1-4388-9167-77A24BA9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121166-4953-4E0E-BF3C-2C4DE3DC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B3EEF2-D02E-4268-9E60-0B97C455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E45193-10B4-4303-AEFD-97DC2A7C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A3F651-BF89-4C6A-8EB5-94E4148C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8F4722-B24C-497B-88E4-1156E86F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2A9936-76E7-4AB4-A863-BD330C94D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EA361D-1488-4A0B-A6B4-8BF34901E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BA7685-BD60-44C1-8626-5010F53E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5CAE57-4BA3-4831-B43A-A1149403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C924E2-4A79-473D-8210-710F4508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0E09-D7C3-4AB9-BF1E-D4DD83E9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85C6FC-A4D6-452E-AB77-F4588512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B080C0-9809-44CF-9E8C-D5AB360E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A0CB97-4579-4038-BA1C-72562784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81BE28-049F-41C1-AB10-F3A99F60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66BF88-07AC-47DD-B663-11F50430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E846B1-F5A0-4F74-9F31-BDEA56F5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F16417-871C-41B8-A942-A89D8DBE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3EA693-2B8D-4538-A757-22070D5C2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67FB2C-45EF-47FE-A190-621C0C809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ABF3E8-59B6-413E-8C46-DD98F01C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9009-9A82-4362-A17F-BF1D71A6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4C0F29-9346-40C4-856D-65F64401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C76560-C4C6-4283-8F49-E83549AA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824199-9ADE-4DEA-A3F0-B23F1DAC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E4651F-BAF4-476D-B3D1-59EEB76B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5224B4-BBFF-46FD-954D-E4061682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F32FD7-32AB-4389-9372-E9F9850F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BFD05D-182A-428E-B807-B6CD8D6E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64DBC7-0DA4-436B-A4BA-5B12C573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92224E-FD97-4F1B-B813-F9A6E09B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AFA763-315E-48CA-9819-2286A1FAF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9005-CDD8-47A1-950C-A705F599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0CF012-72C1-4AA3-B32A-128062015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ABD5D2-5C9B-405A-8996-5A3C66B0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ECC1C4-AF18-4624-ABD4-529D5AFE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FB8778-2043-40DE-8F1A-C7FCDA35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E9CB51-88D3-4F66-AB0D-18EEAAD1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832483-5FD9-436F-B6B0-A296ABBC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D6F0E1-81E9-41EB-9AFF-3F331D59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3F3039-8012-4CB0-9CF8-610B89E9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F32DD2-E050-484A-BDBD-C9D21C91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8AE0D2-9D21-46A5-B427-E5795CE3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2010-C495-4DCE-81CA-5E19C0E4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F49354-E7DB-499A-A43A-50E57263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7838C7-94CB-45F5-9A20-CC3E733A1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C68480-023C-4535-B093-C7877D794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CC72A5-A1FB-4651-8BDC-8925E4B05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5576FD-993D-4E4C-8EA3-2A0BEAA9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A742C8-37FF-4265-8655-70D3D1BF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03F2B8-6746-421E-90FF-22CB1524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5B0267-72E9-42CC-A4BD-EA41DE11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482354-7036-4235-9B3E-BC0D13CC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820D7D-B3EC-44BB-A8CF-596C0F32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6205-CC32-4C80-95C2-1ED6A471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6687-E9C5-47EE-A8E1-F6F74CA4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84A1B5-AB86-463B-9797-FAA58F81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442A7D-C71F-41A3-9D68-C4EE326B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8BD104-C98A-4699-B0E6-DDB6A6EF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851F71-3BE0-40FC-8925-9AEAA3C2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0B5AD8-014C-46B9-98AB-11BFAD09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013A36-372F-4D07-B124-98A5D58A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1EAE74-7BE0-43FA-92AF-A8C56365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E64341-AC90-433C-AAAD-3B62677F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1B3CC4-E80C-41B3-8B1A-262C40AD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0C6576-BF83-4119-90C6-8A34DB1A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53A1-4FDF-4237-B380-CC9E1583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E26D0A-E1E2-4EE0-9FC5-0E085BA7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8F6906-4487-4BBD-9679-117FCDBE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A75E47-5CE4-4220-AFDA-ADEDD553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D174DC-EC28-4A5F-9B43-B99B9BBD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9DDAC1-7952-4790-8650-DDA93397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91CEC6-3D13-4932-A3B5-B6578F6E4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BD1377-9A1D-4F89-8F32-7D8A6326C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F4ECF1-2351-42EA-85AA-62D26BCD6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8A7F46-2258-469B-B3FB-98440409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EC72A0-0FFB-44B8-B60A-78842BF4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1DB5-9ECE-4291-A8ED-2C0DCD32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C7D0E8-F56D-4BC0-8FAC-50AA5DEF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3E8124-782E-40B3-B977-F5C26CFC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07178A-B6C2-41B0-81E2-69A297AA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31ECF7-DCD3-4651-BBAC-651EE1EA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52B312-54A1-4FC3-8CF3-58A4B668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4C0B64-2DFE-477C-88E7-44ABA0C7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92DE0E-916D-4428-A218-3CB0125A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B85BA8-C077-4890-95BE-05C6F0914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E0E48E-BC62-4A57-A73A-5EBB83EAA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3D9A8D-EB92-441F-9F23-24C6E708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E02B-9063-4671-B630-8B663A6A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C8DBDE-F233-4370-A640-50284BFE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189C65-D569-4B5B-AA79-A21F862B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CD5A52-692E-44C5-AAF1-3D6D098A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350C33-9301-4159-9EFA-15670B40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EF1CC8-70F4-44FF-9F31-BC629071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534F75-135B-4704-9924-CA1AE5CA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3C2FDA-88D6-4EE7-8272-5196D50A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954263-B8C8-4587-9E47-32A35AE4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17A4A4-3EDB-4C62-9B2C-883203D2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285490-8809-4530-8092-7FD4CD23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03FE-84A4-4507-BB0C-11CB7F57D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A9233B-BDF3-4C00-AB59-C1C8154B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A8FC40-2808-489C-B090-0E8CAE627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61DC74-B7A2-45EE-BF88-67B9EDA1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71C439-9CF2-4CF1-B6B9-154D67A4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AF2D8C-3DF0-41F0-957F-B674D791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04D0C4-29B5-4A48-8A0E-3CD5AAF3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F67377-BB25-4F38-A2EB-470F5F73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4FDE94-BD58-4464-89F7-059DFB8B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0DA551-3181-4918-8276-FEFD9731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F54EC7-84C3-4434-9146-CAAAE682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FB08C-5097-4300-9E8E-9F5A3447A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63D7B0-1BCB-45C4-BE2D-D78AFEB2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C2B723-38E1-4815-9A5E-837F72238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B8D410-8404-4974-BAD1-EF0BD8403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E5B15E-7CCF-4D68-BDA3-7C9C27B13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07799D-FB16-4958-8619-7C58D2E0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7BC56D-D743-4C96-9F3D-A73B6465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8B79EB-51A2-4564-8141-084D7021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1623DD-ED0B-43E4-BA04-75F01F69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522DC4-1506-4624-90D2-E1D8FA79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C0F2F8-3356-4B19-BC30-1AA250F9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1B771-7450-499E-8038-424589E7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119D8E-3B1A-4276-A222-62F8EB2C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209A63-79D9-4FDC-A26D-808DC125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05576D-716E-4ED3-9E9F-787F2E44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7AAA9C-18CB-4FC1-B83E-1242D567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8CC5FA-1502-4C74-A7E3-EF352DBF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C36430-58A9-406A-A74A-FE569CE1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5CCC3B-6143-4811-812C-FD4BD697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1026DB-AE79-4F63-AC54-7D5812CA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A1D8C8-88A5-44C7-B11E-09A69108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57C8A3-9B5A-4D7A-B040-7E87F0A9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E2A86-039F-4EA1-9B88-781B01BD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477B8B-83C4-4C18-B788-2652CDCC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33C713-1A7B-4C51-BFA0-7A94CD58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B22775-E200-4BDD-B71D-6302316D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50EBCA-B454-4AE9-81DA-2B3DFDC0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FC4507-24B9-4C4C-A3B7-43C3C60F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BF471C-0602-4EB2-B82A-E53D236D0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3C5CE9-A148-4C6A-A705-372D27A4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B934F-704C-43B2-A234-B2DF431D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89B9B-5DA8-4103-A9E1-772862E6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6019-EB17-4DDD-B059-8E296E6C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A662D-4DA4-4274-9E3E-2CD29A1F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FD9D4-7453-4A09-80EC-01B2F959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C76A8-D8A6-4BDD-8271-06FF4209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C630E-3CE1-45EA-A0FF-A59C4E5C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8D94E-5D9D-47D2-A210-E065669E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97804-A4E0-49EB-A58C-985FA95E0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019C8-E2D2-4AAC-8E20-5D9B02594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3A4FF-30E5-49FC-92C3-0A4AFF24E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8BBA1-66B9-40A5-B52A-5DDD9C11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B7DA5-432B-445B-9E62-05B5FF91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7828-43F4-4351-8598-79C4DA0D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BC733-156C-4E6C-A9B4-EBF0AEEA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E275D-C2D1-4BAF-874A-4E9B9010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03C18-5105-43AD-BA10-8830FC10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D31CD-C8C1-4EB4-89BC-F1F04C50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C8AF2-078B-4B44-B1CF-CE3CBB14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7C051-61F2-4CDE-A419-1B97255C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756FA-5662-4145-925D-59DF9404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938F2-7302-4B65-9738-CD4423527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28636-0C51-400F-9CE5-693CD7741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1FBB2-6FBB-470F-BF92-DF582638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C1DB-EAD3-4F3B-A70E-2680E961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0E428-D779-45AB-8E36-6184CE31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06DEE-B705-48C5-889D-F9D8D4EA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E10C9-17AF-430A-8DCA-87CE95D3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1B80E-7841-483B-A90E-C8BD1DC1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0131D-44CF-4A84-BA04-CD40A318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E4C41-3F37-43C4-89FE-769ACF69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21B05-569A-40D9-BEF3-1E7A7494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EF6F5-77A9-4309-889C-D8BB6E59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45D0B-2753-4F8E-A96E-33337019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95180-ED7C-4DEA-97DA-7E488558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6F9A-95E2-45A6-A846-37D1169F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6BC4F-92EB-4D60-8C06-46DDA838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CDFEE-D593-4033-9C0F-14418EB3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A654B-CB7F-43B0-A5FE-02943246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55720-AC64-4D52-9FC3-2FDF5B20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845EE-726E-4662-A0DC-7D82F526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AEC85-3CFF-420B-A0B9-9F4B376C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3B0FB-1E84-45C1-B08D-FB93967B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D7FEB-848C-4165-BBFD-15E2D788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10EEC-3D4C-4FFF-AB80-1F3F30E2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0514A-CCBD-4FE3-8D86-67362B01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C52B-D849-4880-AF6C-11132D32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45019-4F5F-4B73-986D-BCF747DA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59E16-5E9D-4712-9ADD-6F546D6B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B3F69-53F6-4310-9A67-733EBBDDE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8BC37-47C3-4F48-B6FB-B54F770C2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AF63A-25B3-4639-BCCC-4894888C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A12E3-07E8-46AF-AE18-61C9E664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08C27-E9F8-4400-BC7E-93074AD6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08B04-A08C-462C-B205-3C0081FB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4C1EE-2F53-41BE-A934-9D8D6111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AD6D2-194E-410E-A77F-5245A552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CD0E-44C2-4E9C-9162-FA2E0D13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02EEB-0D56-47F2-9C68-9CF4245B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7BE23-3129-4C65-ABE4-0DA4AE8F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47C9B-DF05-4748-BE50-6BF76834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EDD8B-E914-4551-967D-A26D36E1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8AF53-B3E0-47B5-BECB-7C4C3E13C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0DE18-56F1-4BDF-B98F-CEEE0CA8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14712-B44C-4A99-85C9-BC5E9E5A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F3381-7BD7-4387-B029-45FA9504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18A26-8112-4DEB-A807-95C3B501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CD60B-323F-4454-9CD1-2EC82CEC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FEB8-2793-4383-9960-15898F62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B8E0E-A1DB-426B-BF02-7409EFF3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30484-A0AC-49B3-B3A3-E543C020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1EBB7-CF4A-48BF-84CB-A8919608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853EA-ABFC-4655-A9F0-81DCB8CA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0781E-2875-414F-ADEB-AB8BED98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9A261-2248-482A-A2D6-ADA40F3E1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149BD-525A-4D59-8C2B-3E4E35B58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F4BA40-3129-44EE-A1E6-BE1295E7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19C16-F2F2-45C6-BFD1-FC11EA96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F5277-1A84-4464-A139-03B49A7B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E79C-862F-4FDC-AB61-DCBE99BCB2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6A03-6C47-41AA-82D3-1D7FDA9238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A7D2-91C1-4E0E-A277-A330AADFE9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8F77-591B-4D8D-8BC8-CEF80795D2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FF73-51F2-4E7A-9E7E-87B7AB0285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BE9A-52F5-4049-B409-283723D6FA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39F6-2A1C-4F10-BDD0-3733FF4630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0969-B6B0-4AA0-88BC-84EA256BFD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9E29-FD7D-4895-A4F1-BDB2E45BC1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C040-6B4E-4323-AFB1-DC4A516D41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BED9-83D1-4759-9CFF-367EB49538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4A78-5EA1-4879-9557-8465D33CA6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E700-2918-4947-A956-570810793A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804D-0BC1-4ECF-9EB8-C9FA5C8501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AE5A-05BF-4421-A4C2-FA8B1ACAD6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8EBA-28DD-4AC3-B7E4-A0251F74ED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159B-DA9A-4A02-92B8-3AC51A4480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EDCC-03A2-45B8-966D-954DDC1157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2613-200C-4D59-9A76-6CD3640148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09EB-3F5E-41DF-805F-8D9412A43A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6216-6EE8-4D5A-A6D9-32A6816533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535D-B5D0-477E-8E94-C0E93AC0E92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05F8-A23A-48BB-9B0B-818B4CCC2A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9106-A3A3-4F27-9711-875155E420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F249-18CE-43C9-B896-8C8B8FAF89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C5D1-F2B7-41BD-B6AA-5D5892F5F0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3F1C-4406-4CD9-B5E4-BE80B81C2A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4652-F304-4581-AFB7-E654F5C81C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8302-A5B3-44AF-8437-8E803034C5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9FDD-73B7-4285-871C-121441C614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AC38-8023-454E-A37E-7F9D33689C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160D-6B55-418D-8BC1-F35C44122E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08A0-1D5F-47D5-A4BE-272B02D103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F00E-3D1F-4DAE-BC5E-F53695EC9F9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C48E-586C-4BBF-8B0C-FA88DC134F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5D53-B09D-4F82-818D-84C3E9E9CF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E730-D3E8-4016-9258-9ECDEA84FA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0CD3-C422-4AE0-ACBC-01F89E0E9F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BCAA-D1C2-4349-AD2D-0749CB7D6E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2861-89B3-4D34-A04A-84DD648423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B937-FC99-4334-9876-9B2BB2B836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D365-BC6B-4C35-9DE1-84189F2122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2330280" y="2846520"/>
            <a:ext cx="498492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图片 1" descr=""/>
          <p:cNvPicPr/>
          <p:nvPr/>
        </p:nvPicPr>
        <p:blipFill>
          <a:blip r:embed="rId1"/>
          <a:stretch/>
        </p:blipFill>
        <p:spPr>
          <a:xfrm>
            <a:off x="800280" y="1862280"/>
            <a:ext cx="7543800" cy="313344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2"/>
          <a:stretch/>
        </p:blipFill>
        <p:spPr>
          <a:xfrm>
            <a:off x="3419640" y="3170160"/>
            <a:ext cx="2808000" cy="40644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3"/>
          <a:stretch/>
        </p:blipFill>
        <p:spPr>
          <a:xfrm>
            <a:off x="3419640" y="4422600"/>
            <a:ext cx="20890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图片 1" descr=""/>
          <p:cNvPicPr/>
          <p:nvPr/>
        </p:nvPicPr>
        <p:blipFill>
          <a:blip r:embed="rId1"/>
          <a:stretch/>
        </p:blipFill>
        <p:spPr>
          <a:xfrm>
            <a:off x="190440" y="1209600"/>
            <a:ext cx="8763120" cy="443880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2"/>
          <a:stretch/>
        </p:blipFill>
        <p:spPr>
          <a:xfrm>
            <a:off x="3132000" y="1930320"/>
            <a:ext cx="3311640" cy="40644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3"/>
          <a:stretch/>
        </p:blipFill>
        <p:spPr>
          <a:xfrm>
            <a:off x="2771640" y="3817800"/>
            <a:ext cx="2664000" cy="40644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4"/>
          <a:stretch/>
        </p:blipFill>
        <p:spPr>
          <a:xfrm>
            <a:off x="5148360" y="5070600"/>
            <a:ext cx="26636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101520" y="752400"/>
            <a:ext cx="89424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200160" y="2219400"/>
            <a:ext cx="874368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9" name="图片 1" descr=""/>
          <p:cNvPicPr/>
          <p:nvPr/>
        </p:nvPicPr>
        <p:blipFill>
          <a:blip r:embed="rId1"/>
          <a:stretch/>
        </p:blipFill>
        <p:spPr>
          <a:xfrm>
            <a:off x="228600" y="1009800"/>
            <a:ext cx="868680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图片 1" descr=""/>
          <p:cNvPicPr/>
          <p:nvPr/>
        </p:nvPicPr>
        <p:blipFill>
          <a:blip r:embed="rId1"/>
          <a:stretch/>
        </p:blipFill>
        <p:spPr>
          <a:xfrm>
            <a:off x="214200" y="976320"/>
            <a:ext cx="8713800" cy="490536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2"/>
          <a:stretch/>
        </p:blipFill>
        <p:spPr>
          <a:xfrm>
            <a:off x="611280" y="2852640"/>
            <a:ext cx="5047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图片 1" descr=""/>
          <p:cNvPicPr/>
          <p:nvPr/>
        </p:nvPicPr>
        <p:blipFill>
          <a:blip r:embed="rId1"/>
          <a:stretch/>
        </p:blipFill>
        <p:spPr>
          <a:xfrm>
            <a:off x="360360" y="669960"/>
            <a:ext cx="8062920" cy="4562280"/>
          </a:xfrm>
          <a:prstGeom prst="rect">
            <a:avLst/>
          </a:prstGeom>
          <a:ln w="0">
            <a:noFill/>
          </a:ln>
        </p:spPr>
      </p:pic>
      <p:pic>
        <p:nvPicPr>
          <p:cNvPr id="1113" name="图片 3" descr=""/>
          <p:cNvPicPr/>
          <p:nvPr/>
        </p:nvPicPr>
        <p:blipFill>
          <a:blip r:embed="rId2"/>
          <a:stretch/>
        </p:blipFill>
        <p:spPr>
          <a:xfrm>
            <a:off x="1857240" y="5232240"/>
            <a:ext cx="3338640" cy="157824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3"/>
          <a:stretch/>
        </p:blipFill>
        <p:spPr>
          <a:xfrm>
            <a:off x="755640" y="765000"/>
            <a:ext cx="504720" cy="40644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4"/>
          <a:stretch/>
        </p:blipFill>
        <p:spPr>
          <a:xfrm>
            <a:off x="755640" y="4221000"/>
            <a:ext cx="5047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图片 1" descr=""/>
          <p:cNvPicPr/>
          <p:nvPr/>
        </p:nvPicPr>
        <p:blipFill>
          <a:blip r:embed="rId1"/>
          <a:stretch/>
        </p:blipFill>
        <p:spPr>
          <a:xfrm>
            <a:off x="200160" y="709560"/>
            <a:ext cx="8743680" cy="606600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504720" cy="40644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3"/>
          <a:stretch/>
        </p:blipFill>
        <p:spPr>
          <a:xfrm>
            <a:off x="539640" y="4508640"/>
            <a:ext cx="5050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9" name="图片 1" descr=""/>
          <p:cNvPicPr/>
          <p:nvPr/>
        </p:nvPicPr>
        <p:blipFill>
          <a:blip r:embed="rId1"/>
          <a:stretch/>
        </p:blipFill>
        <p:spPr>
          <a:xfrm>
            <a:off x="171360" y="928800"/>
            <a:ext cx="8801280" cy="500040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2"/>
          <a:stretch/>
        </p:blipFill>
        <p:spPr>
          <a:xfrm>
            <a:off x="900000" y="2190600"/>
            <a:ext cx="1368360" cy="40644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3"/>
          <a:stretch/>
        </p:blipFill>
        <p:spPr>
          <a:xfrm>
            <a:off x="4932360" y="2190600"/>
            <a:ext cx="1368360" cy="40644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4"/>
          <a:stretch/>
        </p:blipFill>
        <p:spPr>
          <a:xfrm>
            <a:off x="7524720" y="2176560"/>
            <a:ext cx="1368360" cy="40644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5"/>
          <a:stretch/>
        </p:blipFill>
        <p:spPr>
          <a:xfrm>
            <a:off x="2268360" y="4076640"/>
            <a:ext cx="790920" cy="40644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6"/>
          <a:stretch/>
        </p:blipFill>
        <p:spPr>
          <a:xfrm>
            <a:off x="4859280" y="4075200"/>
            <a:ext cx="1368360" cy="40644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7"/>
          <a:stretch/>
        </p:blipFill>
        <p:spPr>
          <a:xfrm>
            <a:off x="1763640" y="5329080"/>
            <a:ext cx="1368360" cy="40644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8"/>
          <a:stretch/>
        </p:blipFill>
        <p:spPr>
          <a:xfrm>
            <a:off x="5003640" y="5343480"/>
            <a:ext cx="13687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图片 1" descr=""/>
          <p:cNvPicPr/>
          <p:nvPr/>
        </p:nvPicPr>
        <p:blipFill>
          <a:blip r:embed="rId1"/>
          <a:stretch/>
        </p:blipFill>
        <p:spPr>
          <a:xfrm>
            <a:off x="719280" y="2181240"/>
            <a:ext cx="7704000" cy="249552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2"/>
          <a:stretch/>
        </p:blipFill>
        <p:spPr>
          <a:xfrm>
            <a:off x="1547640" y="2824200"/>
            <a:ext cx="1152720" cy="4064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3"/>
          <a:stretch/>
        </p:blipFill>
        <p:spPr>
          <a:xfrm>
            <a:off x="3635280" y="2838600"/>
            <a:ext cx="1152720" cy="40608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4"/>
          <a:stretch/>
        </p:blipFill>
        <p:spPr>
          <a:xfrm>
            <a:off x="2195640" y="4091040"/>
            <a:ext cx="324000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33:11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